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55619"/>
        <c:axId val="25080067"/>
      </c:barChart>
      <c:catAx>
        <c:axId val="6515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0067"/>
        <c:crosses val="autoZero"/>
        <c:auto val="1"/>
        <c:lblAlgn val="ctr"/>
        <c:lblOffset val="100"/>
        <c:noMultiLvlLbl val="0"/>
      </c:catAx>
      <c:valAx>
        <c:axId val="25080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EE7-ACB5-4A63-931E-ABCE890D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8BF-9B99-43BD-80F4-FFCBD5D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1E0-FDD0-42FF-8505-2BB83CAB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A06-6FE3-4FE3-A0AE-272A4F07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337-B157-45E5-BF01-0C5D583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903-94A8-474E-82A0-E1245FC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8E4-A002-4933-B325-8323B927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AE0-847E-42E2-A3D4-1EBD00A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2A1-2BE1-45F6-B3A9-F564C212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770-11D7-4F77-BBCF-4190FDF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398-4740-424C-BBF6-343643A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C23-5141-4A76-A787-A95C34C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EBEE7-491B-43D8-A48E-2307E1A98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