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47097"/>
        <c:axId val="67592219"/>
      </c:barChart>
      <c:catAx>
        <c:axId val="13847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92219"/>
        <c:crosses val="autoZero"/>
        <c:auto val="1"/>
        <c:lblAlgn val="ctr"/>
        <c:lblOffset val="100"/>
        <c:noMultiLvlLbl val="0"/>
      </c:catAx>
      <c:valAx>
        <c:axId val="67592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47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094-7C21-4FEA-BB23-8DF4BE38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28C-0332-4AE0-AE80-4448E844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823-0398-470A-8C1C-139D43D3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1CA-0B63-4C1F-9D0E-A08C22F4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DF1-28FD-4AD2-B0FD-6782473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CDD-6A32-40FA-8071-C06DFF90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5AA-B23F-4995-ADA7-D2378985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15E-35D1-489B-903F-A7718A1F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9B4-9719-4408-856E-3F8003E1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7E5-F1BA-4304-A6F3-78682F2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AA1-35F0-4963-887D-7F8B129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605-700A-440A-8342-356DF8F5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CE5AA-2E9C-42D8-B52B-1A59E538D8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