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53002"/>
        <c:axId val="26249550"/>
      </c:barChart>
      <c:catAx>
        <c:axId val="28653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9550"/>
        <c:crosses val="autoZero"/>
        <c:auto val="1"/>
        <c:lblAlgn val="ctr"/>
        <c:lblOffset val="100"/>
        <c:noMultiLvlLbl val="0"/>
      </c:catAx>
      <c:valAx>
        <c:axId val="26249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53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269-A938-41D3-BF3C-970EBC22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298-9552-43D7-8F93-615FCA1F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E9D-D1E5-4519-8CFD-2BB8B16C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EBB-45B4-4F71-8958-97F43DED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F21-2873-4FB6-97C2-6D41D1B1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4F6-CC50-4155-80D8-65CEE3DA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D3E-D889-40B0-BC13-ECB74ED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CE1-E194-47FD-950B-4150AD3D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BBA-E808-4748-90E5-C6BBC495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147-5134-4762-9613-4C9A5DB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293-7976-4084-AEBD-F3B9393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298-C0D7-40A5-A81F-B5440D1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7F2A3-D522-40CD-B1F3-2BEF559C5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