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92428"/>
        <c:axId val="17361972"/>
      </c:barChart>
      <c:catAx>
        <c:axId val="38892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61972"/>
        <c:crosses val="autoZero"/>
        <c:auto val="1"/>
        <c:lblAlgn val="ctr"/>
        <c:lblOffset val="100"/>
        <c:noMultiLvlLbl val="0"/>
      </c:catAx>
      <c:valAx>
        <c:axId val="17361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2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4F0-B2F2-45FD-9DE8-3F4B6DC3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050-9C55-4EC9-9F14-2F7E356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AD2-83A9-40CF-9BEF-2868F21A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FAA-14A9-46D0-ACC5-8B57B07F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C80-9BF3-4E80-9E6D-F6FDAF2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88E-7CD3-4E5F-8334-9455049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E14-AD2E-4EAF-AFB2-DAF6C84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104-0EE8-4641-8638-12748070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EE0-0D20-4911-AB6F-7E45A0C6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22C-B30E-4663-9CCC-AA0A456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5D1-78B0-4965-BD44-E5C2B7A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F3D-6F97-4AA8-AE8C-F60C567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A499-A7F2-4185-8312-FDBD743BA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