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01166"/>
        <c:axId val="5032194"/>
      </c:barChart>
      <c:catAx>
        <c:axId val="81301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2194"/>
        <c:crosses val="autoZero"/>
        <c:auto val="1"/>
        <c:lblAlgn val="ctr"/>
        <c:lblOffset val="100"/>
        <c:noMultiLvlLbl val="0"/>
      </c:catAx>
      <c:valAx>
        <c:axId val="5032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01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0DD-6F02-4CB8-AEBE-3C48A3C3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F27-5EE4-4719-9256-F241D2C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1BA-DDF0-4425-AE1E-9452FE07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C32-CF61-4B19-83DD-B6939C0D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8DA-8F83-44C5-876E-955B0C35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5B3-08CB-4492-AE0B-7BBAC670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188-43A2-4A39-B93E-8B68C946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102-90BB-40F7-8E0E-FFA82826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F5B-F10D-4D92-B480-30A3E0D6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D43-85C3-4E78-979B-597DA23A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99D-B40A-400B-81CB-E7611582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D7F-08ED-4518-8476-5ADD1FE3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29021-E6CA-41BA-A1BE-7E2653995F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