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61069"/>
        <c:axId val="96347175"/>
      </c:barChart>
      <c:catAx>
        <c:axId val="29061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7175"/>
        <c:crosses val="autoZero"/>
        <c:auto val="1"/>
        <c:lblAlgn val="ctr"/>
        <c:lblOffset val="100"/>
        <c:noMultiLvlLbl val="0"/>
      </c:catAx>
      <c:valAx>
        <c:axId val="963471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1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7BF-C267-4641-A9AA-1A93B50E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D3DB-6C1D-46B3-90C6-2561D05D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8726-3CDA-4BA1-99AC-0AA7673C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472-B12E-474C-8A80-F6F165E8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981-42B0-43AB-9803-3436C338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198-3E62-4964-940C-D1F5A069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971-0268-480A-A5ED-26CAB27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3DC-39A2-44ED-BAE9-F25AF39D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630-7984-4A68-9FBC-4503BE2E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13EC-3FA2-428B-8A83-559869AA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9FE4-CFA1-4A60-9CE6-03E5D7E0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949-9633-4F97-B0D8-A66EF31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EF081-6C70-4CDD-A402-1F2100ED70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