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366646"/>
        <c:axId val="37138736"/>
      </c:barChart>
      <c:catAx>
        <c:axId val="383666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138736"/>
        <c:crosses val="autoZero"/>
        <c:auto val="1"/>
        <c:lblAlgn val="ctr"/>
        <c:lblOffset val="100"/>
        <c:noMultiLvlLbl val="0"/>
      </c:catAx>
      <c:valAx>
        <c:axId val="371387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3666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201E-2D70-4597-B682-72DDFD99E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5A9C-F980-43C2-9856-DBCB8A2C2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1000-62A8-4F5E-AF4C-61BB5F6C1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8AA6-6BFC-4152-B645-E1255F60A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CE29-9E3F-4B95-9C1F-0B50C399F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F9EE-AA7A-430F-B6E0-376EA70F5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C777-F02A-4B73-A1C9-84EB8A64B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2F89-FFDA-4B14-83BD-6FF79DB66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27F2-F619-4A02-9A85-F05D662CB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81E1-A178-42CF-AB94-7EACD131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97A1-5F3D-4BC2-892C-524802F3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BC3D-BBB0-41B6-B136-5D41F869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EE3B60-5B07-4765-8C69-A31C5D3866A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