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445592"/>
        <c:axId val="28097361"/>
      </c:barChart>
      <c:catAx>
        <c:axId val="474455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097361"/>
        <c:crosses val="autoZero"/>
        <c:auto val="1"/>
        <c:lblAlgn val="ctr"/>
        <c:lblOffset val="100"/>
        <c:noMultiLvlLbl val="0"/>
      </c:catAx>
      <c:valAx>
        <c:axId val="280973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4455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4941-8CBB-4504-A86F-2271BEB58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2523-CFF2-46B3-94DE-9180C566B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9D2F-0296-4A84-A584-740962739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FEA9-21BD-44DC-8FC0-62AEDC444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CEC4-86F9-4089-9697-1E0580C42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9B6E-6C2D-4BD5-91A0-9F903737C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86BF-3AB9-4B2F-B124-E4E0F68BB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3372-7C03-48D3-8DC3-F51011EBC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E7FF-6AB3-407F-BF84-60260448E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CC22-C0A7-4A37-A958-2F747B183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33D8-FB6B-4CED-8CAF-E4EC136C1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6DDB-2B94-4E56-BFDF-DD0AAC2F3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A3CB79-42A9-44A5-AFF3-2276FD1C498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