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13046"/>
        <c:axId val="79582973"/>
      </c:barChart>
      <c:catAx>
        <c:axId val="77013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82973"/>
        <c:crosses val="autoZero"/>
        <c:auto val="1"/>
        <c:lblAlgn val="ctr"/>
        <c:lblOffset val="100"/>
        <c:noMultiLvlLbl val="0"/>
      </c:catAx>
      <c:valAx>
        <c:axId val="79582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13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846-9E38-40FA-8ED7-876C8682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EF6-0E7E-4141-84FC-E4AEF0F9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89C-F3B6-4B24-8581-8CAFC334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FD9-182E-45F5-8364-CEE8964F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DBD-2741-492E-B5A1-AC51182C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9A7-516A-41AD-8568-480428F2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76B-CAF3-45BD-9453-25FC22E3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F8C-D7CD-4C9F-9DE9-8B33798D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4B9-5408-4289-BEB4-720CC846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A5A-CE97-4FA2-BE52-EFEBC5AB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4D7-BC12-4262-AF3E-8F683BE1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336-BFEA-4653-8370-A3A1810E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1B9C7-AFD4-49B1-85D9-580767DA7C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