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78"/>
        <c:axId val="12399090"/>
      </c:barChart>
      <c:catAx>
        <c:axId val="374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99090"/>
        <c:crosses val="autoZero"/>
        <c:auto val="1"/>
        <c:lblAlgn val="ctr"/>
        <c:lblOffset val="100"/>
        <c:noMultiLvlLbl val="0"/>
      </c:catAx>
      <c:valAx>
        <c:axId val="1239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162-FA4F-4639-BA2E-47570DA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5A7-31C6-4F11-87DC-AEEC98EA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0F9-9541-49AF-BFD9-C7D0841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37C-7E48-4930-944E-387C7EAF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289-4F93-4AAB-A9AE-1DEC160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6D1-6019-4655-B24F-D028C72E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196-ED56-4A28-AFA6-A05601A2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F35-6AC1-44AA-BC2B-4B61551D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16A-9ABF-42A4-BB8E-2F54320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7E6-C679-4FAB-985D-62B661E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083-BB1F-46D9-B32A-67AD7E7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5E7-5228-4835-984D-0E5EF93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B56F3-625E-4A6A-8228-D166614AD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