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70605"/>
        <c:axId val="25237336"/>
      </c:barChart>
      <c:catAx>
        <c:axId val="93170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7336"/>
        <c:crosses val="autoZero"/>
        <c:auto val="1"/>
        <c:lblAlgn val="ctr"/>
        <c:lblOffset val="100"/>
        <c:noMultiLvlLbl val="0"/>
      </c:catAx>
      <c:valAx>
        <c:axId val="25237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70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8EF-C3C0-43B6-971A-C01B59F9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5B5-0A2E-4CD0-8F6D-F904160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B61-7C9B-426F-9CDC-B77ADC2A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938-3933-464A-A369-A9BD70E6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BAA-1F17-4769-BEB8-EE3BA125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3D4-84BF-4EA0-913A-547CC669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5D6-A884-461E-8800-3A305FE0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D39-696A-4849-B1BC-F2B00B5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794-1633-4624-9377-F15C32FB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629-B7E5-421B-9B28-E8C2DB2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B6B-D3CA-4A9E-885E-04FD3D7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514-6402-4184-B97A-D92FA7A8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0503-4E0B-4862-ACF4-DBB80F7B6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