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63342"/>
        <c:axId val="3143819"/>
      </c:barChart>
      <c:catAx>
        <c:axId val="39563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3819"/>
        <c:crosses val="autoZero"/>
        <c:auto val="1"/>
        <c:lblAlgn val="ctr"/>
        <c:lblOffset val="100"/>
        <c:noMultiLvlLbl val="0"/>
      </c:catAx>
      <c:valAx>
        <c:axId val="3143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63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FD2A-223D-4313-A9CD-258B4BCD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3D1-4191-4A1F-B8ED-53B76E68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52F-0EBA-438A-A409-F8F475F4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0C4-66BC-4850-99B0-5AA7DE6A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F86-35AF-473D-893D-49387143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DAD-327C-490B-85AD-023F289C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4C0F-F67F-4F1B-9C62-C9135A3F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F67-E5AC-4D4B-9798-796288AB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A5B-6FA5-4DF9-8050-1119E28A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62E-5AFB-4251-A9DA-0F928660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DECF-03C7-4029-8EB0-942BE019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901-C826-4297-A181-1E73DA9E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A4AF5-2FBB-4A4F-93A8-1AD571170A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