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25590"/>
        <c:axId val="44123246"/>
      </c:barChart>
      <c:catAx>
        <c:axId val="24425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23246"/>
        <c:crosses val="autoZero"/>
        <c:auto val="1"/>
        <c:lblAlgn val="ctr"/>
        <c:lblOffset val="100"/>
        <c:noMultiLvlLbl val="0"/>
      </c:catAx>
      <c:valAx>
        <c:axId val="44123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25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7BB-AD34-4120-AF06-CF91C3E1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85F-93F1-4D1B-AAAE-CBEAE4B9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E3C-35A2-4E8C-B4D4-CBCFC9AA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5FD-35F1-4CD4-9BBA-FE922B1A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047-D246-4933-AC4F-01EC7124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467-F7AE-4AAF-8809-79B68502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28D-1A09-425A-81D6-E1CD1562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B8C-0B67-4567-ADD7-4231DDCC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E30-2A83-4ABF-BE59-FFD89B5E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690-3155-4296-9232-E5900D2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E28-3A73-4DA6-9327-532C3916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6BF-185C-4320-94C3-49902DF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9377C-8D98-4E5C-9125-51CE3F908D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