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778192"/>
        <c:axId val="58549478"/>
      </c:barChart>
      <c:catAx>
        <c:axId val="657781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49478"/>
        <c:crosses val="autoZero"/>
        <c:auto val="1"/>
        <c:lblAlgn val="ctr"/>
        <c:lblOffset val="100"/>
        <c:noMultiLvlLbl val="0"/>
      </c:catAx>
      <c:valAx>
        <c:axId val="585494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781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1B09-1FC2-4ACC-945C-F26021C1A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DAA2-F12A-44AB-ACEF-61EC2ABF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31B4-FA99-46D1-830C-755B25EB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A039-9C6A-402D-A2F6-619907707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37EA-D656-4904-A699-B3E8DD78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1159-EB94-4188-BE6E-F3B3908E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E096-BCE5-4FDE-AFCA-DF66B0C6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565F-7EC7-4631-A7D0-931C2D1D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815A-3B12-437D-AA13-F325D9C8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2C8A-1145-4759-B4D3-1CD0E4AA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8090-2869-4007-89FF-4C1D941D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2B96-85BC-4821-B320-3D13898E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97D52-8004-4FE2-90A4-612421D830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