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26107"/>
        <c:axId val="80245740"/>
      </c:barChart>
      <c:catAx>
        <c:axId val="73926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45740"/>
        <c:crosses val="autoZero"/>
        <c:auto val="1"/>
        <c:lblAlgn val="ctr"/>
        <c:lblOffset val="100"/>
        <c:noMultiLvlLbl val="0"/>
      </c:catAx>
      <c:valAx>
        <c:axId val="80245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26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BC0-ECC3-4DAD-83F1-D04DD7E6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D8E-56EB-4D52-849B-3A3E8136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2F1-D73A-4669-AD38-7D9A76D0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C53-EC9E-4CA0-831D-C611B979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5F5-1136-4E4F-AD94-62233D9F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A78-6D17-4E16-8FF8-42112E93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679-C78E-4BD1-8417-4816D1CD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55D-8611-4D91-96F8-203262D8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65E-4BCA-49E4-9845-C555720E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EA0-1B9E-457D-BF34-89287B82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BAE-49C6-4A28-BB67-78ABCE4C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095-2724-4541-A127-E83A14A5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B0659-B200-4359-AFEA-BF92E46FEC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