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084730"/>
        <c:axId val="21492679"/>
      </c:barChart>
      <c:catAx>
        <c:axId val="950847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492679"/>
        <c:crosses val="autoZero"/>
        <c:auto val="1"/>
        <c:lblAlgn val="ctr"/>
        <c:lblOffset val="100"/>
        <c:noMultiLvlLbl val="0"/>
      </c:catAx>
      <c:valAx>
        <c:axId val="214926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0847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29EE-C989-422A-BF03-3D283E107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8B95-0649-4CB9-88C1-EF65B719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22A0-F615-401A-AC81-BA3FE9E42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F801-07D4-4831-9635-6A686B077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D5AD-B3F7-41FE-B4D7-821945DB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6DE6-2EF9-431B-8728-81C427E6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A554-EE19-4B2D-9086-3BF38B22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FD93-D2E5-4A1D-800E-3788DAF0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1566-8DAF-4845-AF37-6FCB29E5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4D20-08C6-4D6D-8BFC-ED3F6C63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6B2B-EA3C-40C7-80C0-5642DCEE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87C4-BD58-4F1A-B709-9978EF57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9790D-5570-4994-85E0-60DE3EAB7F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