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111094"/>
        <c:axId val="98633829"/>
      </c:barChart>
      <c:catAx>
        <c:axId val="421110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633829"/>
        <c:crosses val="autoZero"/>
        <c:auto val="1"/>
        <c:lblAlgn val="ctr"/>
        <c:lblOffset val="100"/>
        <c:noMultiLvlLbl val="0"/>
      </c:catAx>
      <c:valAx>
        <c:axId val="986338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1110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F8EB-7E1C-4A6F-B32B-ECFB47E77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4738-8B84-45B0-BA4A-B7EED9867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D31D-FD0D-4557-893C-FD2DEFA24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13DE-4F9C-4228-BC02-803DD1990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7374-2697-48B7-A5D3-067FBAE67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A55D-270D-45BA-A7A2-4EEBEC9E5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6BBF-8130-4BF6-9185-6407238B9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1627-FE96-4EB4-A0D5-5278E6B5D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4FA6-8417-459B-A05D-55E140B03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F4AB-8C95-484F-B622-730AE7C3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D2F9-48E0-42F5-8F55-BF309792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4E41-9293-4A5F-AD4A-BA17E266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4DE34A-3842-4D17-BF81-3619B57EF8B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