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191822"/>
        <c:axId val="75268132"/>
      </c:barChart>
      <c:catAx>
        <c:axId val="81191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68132"/>
        <c:crosses val="autoZero"/>
        <c:auto val="1"/>
        <c:lblAlgn val="ctr"/>
        <c:lblOffset val="100"/>
        <c:noMultiLvlLbl val="0"/>
      </c:catAx>
      <c:valAx>
        <c:axId val="752681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91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BB28-1803-4BCC-BF4E-E8196E87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49C-D9AC-4572-AF66-B7B0F6E4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566-1A1E-4BA1-A4BD-B58690C1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9EB0-ABBD-4A0B-87FF-34F19E6E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259B-11BA-4683-A59F-B1BE1F12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8419-9B0B-496E-9B58-5462C91B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5B25-C90C-4BEE-8A8B-7A345D93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600-7A69-41CF-A1BA-D9E32588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3CAD-8140-45A9-8020-60B2DD0B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361E-B0DC-4729-ABB2-2AF8F3A7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4CC-C616-4F70-BA17-7C60E07C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7CC-0370-431C-968B-B4E93FEC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E13E3-B11E-4120-BA99-D1C55745E0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