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684032"/>
        <c:axId val="68440848"/>
      </c:barChart>
      <c:catAx>
        <c:axId val="336840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40848"/>
        <c:crosses val="autoZero"/>
        <c:auto val="1"/>
        <c:lblAlgn val="ctr"/>
        <c:lblOffset val="100"/>
        <c:noMultiLvlLbl val="0"/>
      </c:catAx>
      <c:valAx>
        <c:axId val="684408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840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B2AE-7BC1-41C8-B722-01BC2F0B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7C57-6846-4425-B0F0-ABC0B327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93F3-85BC-479E-B87B-4D991C22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7CFE-C7CB-41A6-8422-E96189FC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C147-C12D-4263-B449-75D937C3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88B8-29C0-4BBD-82E3-AA49C790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4D3A-A93A-41CD-9582-C8FE73E9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196A-2647-42BF-92E1-BA5E6898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512-5136-40C6-BC09-ED8130BC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48C4-2B5E-4BFB-A8A4-A34A268C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BB4F-B622-4EBF-BCC7-9CD7CC07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307C-22DB-40FC-AB1F-14B955EC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F4F85-02FF-4937-9792-C526640779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