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38410"/>
        <c:axId val="69779808"/>
      </c:barChart>
      <c:catAx>
        <c:axId val="99038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9808"/>
        <c:crosses val="autoZero"/>
        <c:auto val="1"/>
        <c:lblAlgn val="ctr"/>
        <c:lblOffset val="100"/>
        <c:noMultiLvlLbl val="0"/>
      </c:catAx>
      <c:valAx>
        <c:axId val="69779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38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1FD-2CD4-4492-AF4A-81554A23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79C-1AC0-4DE5-92EB-9404FEA8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633-5725-43B9-8757-E5271571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381-B1DC-4EE6-81BA-04650363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6E3-5FFD-41A2-ABF4-6C66B064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468-A7D3-4AA1-A0DC-D0BBD8B9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971-E515-4664-9B66-A7B537EA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AAD-1C4B-49A1-8212-7C005AEE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4B7-98A7-41A1-B43A-2F16C565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7D5-3470-4072-AD74-B19D841E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305-5068-4C86-8750-1EE5959C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9FB-C499-4F15-9332-CAF1BF85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B6873-50DB-4714-A9A4-D93972CCB2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