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57606"/>
        <c:axId val="35582571"/>
      </c:barChart>
      <c:catAx>
        <c:axId val="90357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82571"/>
        <c:crosses val="autoZero"/>
        <c:auto val="1"/>
        <c:lblAlgn val="ctr"/>
        <c:lblOffset val="100"/>
        <c:noMultiLvlLbl val="0"/>
      </c:catAx>
      <c:valAx>
        <c:axId val="35582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57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472-D912-4270-86B0-DABA9370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5A2-FF87-4BEE-B46B-A54BFFF6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B5A-6D35-499E-AA51-47466F9B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C02-5CF9-4CE1-9C38-D98AA613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364-DA6E-49DD-B025-1AD87F63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ACE-C31D-4E53-B508-580D468B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FE6-E3C8-4A9E-9D57-6293CF87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06B-1B5E-42F3-A5BD-E396F151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54E-5E13-4278-B1CB-4977700A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333-0837-4DAA-90A0-F3A4642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9A9-7068-4528-959F-74319310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9DA-4634-41A2-A753-F191CFE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1842C-64A0-4889-84DB-D57BEF57F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