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406350"/>
        <c:axId val="38555432"/>
      </c:barChart>
      <c:catAx>
        <c:axId val="454063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555432"/>
        <c:crosses val="autoZero"/>
        <c:auto val="1"/>
        <c:lblAlgn val="ctr"/>
        <c:lblOffset val="100"/>
        <c:noMultiLvlLbl val="0"/>
      </c:catAx>
      <c:valAx>
        <c:axId val="385554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063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DECA-9E14-4542-B6AE-541DEBAA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1A49-7975-49A6-982D-EB70B2AC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2089-4B41-4336-8B27-3A8AD0582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1866-C18C-4031-8202-E00453624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A6AD-4EE6-436C-ADE1-89121C67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8377-1ABD-4A97-AB44-863AF158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3973-6D7B-49D6-9471-E4972BF3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2099-25DC-4D41-843E-5988C66F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FEF8-5BA5-4C9C-A9D9-A2736D51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C2AC-A843-4D49-B464-65D107EA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0127-9D96-47F4-8C74-22569C77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9701-7AD3-487B-A60D-398E0C3F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B866B-283F-4A22-A1C0-BE4B368C80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