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42849"/>
        <c:axId val="7216155"/>
      </c:barChart>
      <c:catAx>
        <c:axId val="16042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6155"/>
        <c:crosses val="autoZero"/>
        <c:auto val="1"/>
        <c:lblAlgn val="ctr"/>
        <c:lblOffset val="100"/>
        <c:noMultiLvlLbl val="0"/>
      </c:catAx>
      <c:valAx>
        <c:axId val="7216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42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20F-8F11-4151-B88D-CF87C8AD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416-80CA-4C0F-9EDE-BA754569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13B-5B4E-453C-A59A-4D45093F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635-C0E7-4BB0-914D-8B85DB94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AA6-A126-43D4-8A6B-22FFDFC1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823-3B4A-4BD2-B3AB-113851C8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E8D-4B2B-48A8-B481-6D25139C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C4E-D12B-4B9D-9CB5-B7648755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0B4-245E-4420-A4E3-21EB8FB7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5F7-F37F-4074-AB7F-32DF7109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218-BD97-4917-BAF0-CE7B5670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98A-9781-48AA-8B8D-F12328B7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0C2C4-DD34-4297-A4D0-7F1FDFE19A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