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513369"/>
        <c:axId val="87981759"/>
      </c:barChart>
      <c:catAx>
        <c:axId val="175133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81759"/>
        <c:crosses val="autoZero"/>
        <c:auto val="1"/>
        <c:lblAlgn val="ctr"/>
        <c:lblOffset val="100"/>
        <c:noMultiLvlLbl val="0"/>
      </c:catAx>
      <c:valAx>
        <c:axId val="879817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133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9D3B-6F43-47A3-B921-0A86A91C8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D49E-F67A-4E68-88BB-92DA7BBF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48B4-39F0-4CC3-A817-B795D14C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E2F2-B8DB-4251-B4DD-DD59325B0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AAD9-998C-45E4-A18B-BCF91021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FFD8-2FEE-4715-B892-205F3026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E444-E1BD-4F62-ADE5-186F7BF8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6073-D59A-4069-B326-DFFD79EB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43AF-416D-4DBE-B4C6-0E1E7E70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60D5-724B-4756-95D6-481E6D77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C336-B9FD-4DB8-9FDF-363B729C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647F-1286-407E-8ABE-63167941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2FBEA-D098-4A91-A390-072C8CDD59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